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4.wmf" ContentType="image/x-wmf"/>
  <Override PartName="/ppt/media/CAMERA.WAV" ContentType="audio/x-wav"/>
  <Override PartName="/ppt/media/image2.jpeg" ContentType="image/jpeg"/>
  <Override PartName="/ppt/media/image3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B25A-A73A-4D64-83ED-F57AC575D6F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t ribs and bo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limbs, wasted butt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rse, fragile 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uberant be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d activity, apat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l, vacant st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weight (2 S.D. below mea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57DF-DF33-46AC-8858-E01C717A78C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tudy of hospitalized pts resulted in only 1.4% of tests being of diagnostic assistance in F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4C39-9BA0-4B8B-8638-B120F6A4908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62CF-7DFC-4A2D-9DDB-124E82FE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FE0-0496-44BC-889F-E12877502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CB3-86DC-46A7-B47B-F21AF8E6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FFAD-B823-4AA2-8C27-208BF0E5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C3B8-F471-49EF-B6DC-CCBDE65AB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2A82-9452-41D7-8213-4EE362E4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7BA8-53C0-4ECD-BB8B-C2890F1C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C343-5354-49AE-BB20-98F0A449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9389-788C-49FD-BBEE-17000E3C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087C-0904-45B5-9FD1-E7C3A201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2A51-5CE2-4375-A41A-777EAA91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2354-E6CB-4999-B8B4-FF82CA6F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424C-740B-4460-8AA2-61D6C40F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1A83-5B64-4462-B982-70011778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A573-567E-4E98-BF72-53D8F728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0957-31BC-4BF8-96B2-BAF57FD44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881A-3228-42E8-AAD7-562CC84C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30E5CB-E892-465C-AD49-6C101107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373D3-A544-40E6-9BCD-18F5A801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CD2130-73A7-4323-BBEC-3246CBC4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B0204-1608-4ACF-9E8D-62241ED3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1D33F-52BF-4F4F-8A33-2B5D268B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6621-A332-4484-8D6E-3047A1AA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8CC44-7BD5-47CB-96C7-8F454009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079EB-FF1D-4492-A0D3-B8BD8B63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E70C0-0686-49FE-895F-AEA138F4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9D87E-B0BF-41F5-A078-6CFD6E13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50B15-124A-4DC4-B83F-32EA9213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782AAC-E63A-4126-BD3E-656C55B5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9FBF5-34E3-4B91-9209-3187CA2F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4D7B52-663B-4356-AACA-104E3CB3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AF8D40-D033-48B6-AE56-CAFC510F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25FBF-C3FF-4DD5-A9B8-A76BACEC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E88-CB18-43F4-BEB3-36F1D6C6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210105-729F-46AF-BFD7-C64B122F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B27019-B0E5-4015-865D-671557D7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8F47BF-887B-4662-940D-780C0A3A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4722E0-1616-488F-B8E6-C9F18B3F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A7A1AA-5D64-4237-84F7-A5E64A0C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95FBD1-0700-448F-89E0-EF394E68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DF9C7A-1CEF-40E2-8951-6BC51551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298EFE-B17D-4BD7-8B5E-076A0DD0F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09399F-15F3-4257-BAB8-69B5ACA6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2E060-BBF1-4721-B007-BFF27D70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CAC-B44C-494A-9D5E-58EAC25C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B5466E-C3DE-4E5E-917C-4BF20D33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FB17D6-AC48-4EB8-9E61-38BC7651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7EF59-E0A9-4B79-BE6E-63FCD754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DB190-F6C5-4CE0-B6E2-F2CC84A8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E96D08-AC50-4B1E-AA4B-D0E9E770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FCB281-1BAA-466F-B622-8B3D8965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253F74-D697-4D69-8CB1-BE98B430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F82CAB-2709-422D-AB3C-56453751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2A160D-80CE-41F9-AA82-31F3ADA3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3AB490-2C5B-47D5-B65C-EEC1A878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883-4304-46FD-B29F-3EF68C4E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296355-AE15-48F8-9507-A30475B5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410A6-35B1-4BB9-84FC-F376AC8F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D3B02-4A40-4F52-AEB0-23831E02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01609-D058-49CA-B28F-E23249BE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01DA0-E9E4-4890-B7D5-F44F4E85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38527-8240-4230-9276-4E8AEA40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BAFEE-456D-4391-B0A2-1D0554E7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B8B5B-1AFB-4452-8FD2-7FA2EA60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08A172-3AD5-4D59-90EF-D5AEA4F3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DF8C9-D320-4C09-90DE-995FEECB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0CC-5F15-4125-8749-B8CEA1FC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22128-35E5-4445-ABF4-8B347488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E22BD-F292-416C-8118-2B3F6E60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5FB84-6019-46CB-A38A-571BD5208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9D9CC0-B667-441A-9445-FD45D050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44E41E-4741-40A8-B996-8D52502B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490951-4A51-490C-BFBA-2A7B52AD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9D218B-234F-49ED-BAF0-F9095139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B058E8-A2EF-4166-A959-DDE1493E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2B6139-EE46-44E1-8855-94FC0127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B297BB-C07B-430F-90CD-820509DA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1A88-C4FC-4AD3-89DF-BDBC6298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54813A-360C-415C-8916-213A5D7D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1CD8E3-4FA6-45F9-877F-117A83D2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962574-45DD-45AF-A372-4BCEC5CE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190475-E244-4130-BBBD-8CB2159F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EA2A3B-92C7-4907-B535-EEA29144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1F9A9-D4FA-4290-92A7-3E548DE4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488B3-EB39-4C67-BBA6-BE0B70C3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2BC5D-5E75-4226-B54A-C3E91535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7778F-D78C-4A9C-812F-A89002DC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E7B30-30C3-476D-8A24-EA3D5372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11C-A058-43CF-87A8-AA9A6152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1A38D-240D-4A88-A2A3-E5947E10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B0E24-3ACF-419C-B5B2-5FCB5E0A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0F5E0-B8CA-4EEB-9007-36BA4F04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27D99-171B-4B8F-998F-3071936A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8F884-85C3-456D-9CA1-759C6BE3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1FA46-5895-48A5-B093-40356712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05CA9-9BB2-4FFD-A7B2-C37BDDB5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D82F-C40C-4F4B-B5E8-34B65197BD3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مستطيل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مستطيل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911A-5E69-4935-9D9C-B95834181A12}" type="slidenum">
              <a:rPr b="1" lang="ar-SA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مستطيل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مستطيل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6EB6-4FBF-4F3C-940C-F4106F2946E6}" type="slidenum"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7B3A-BDA0-4611-B3D9-B8B807D2B85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FB6C-366A-43DD-9221-F67F557604F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332C-C763-479C-BEE1-988E4447BF78}" type="slidenum">
              <a:rPr b="1" lang="ar-SA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مستطيل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مستطيل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مستطيل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مستطيل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4AD5-DA1A-4573-A518-D6226BE229F0}" type="slidenum"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مستطيل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مستطيل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مستطيل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DFB2-3BEA-4C50-A315-E21D1BC45E55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4920" y="549000"/>
            <a:ext cx="820908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dc3"/>
                </a:solidFill>
                <a:latin typeface="Tw Cen MT"/>
                <a:ea typeface="Times New Roman"/>
              </a:rPr>
              <a:t>EVALUATING A CHILD WITH FAILURE TO THRIVE</a:t>
            </a:r>
            <a:endParaRPr b="0" lang="en-US" sz="32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50920" y="2707920"/>
            <a:ext cx="8353440" cy="32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Dr. Husam S Islam M.D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Ped. Gastroenterologist &amp; Hepatologis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King Saud Medical City , Children hospital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Riyadh Kingdom of Saudi Arabi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tiolog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a3c"/>
                </a:solidFill>
                <a:latin typeface="Tw Cen MT"/>
              </a:rPr>
              <a:t>Increased metabolism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yperthyroidism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ronic infe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ongenital heart diseas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ronic lung diseas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a3c"/>
                </a:solidFill>
                <a:latin typeface="Tw Cen MT"/>
              </a:rPr>
              <a:t>Other consideration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enetic abnormalities, congenital infections, metabolic disorders (storage diseases, amino acid disorder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iagnos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ccurately plotting growth charts at every visit is recommended*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sess the tren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&amp;P more important than lab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ost cases in primary care setting are psychosocial or nonorganic in etiolog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isto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ietary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Keep a food diar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f formula fed, is it being prepared correctly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hen, where, with whom does the child eat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M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Illnesses, hospitalizations, reflux, vomiting, stools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Who lives in the home, family stressors, poverty, drugs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Medical condition (or FTT) in siblings, mental illness, stature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gnancy/Birt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ubstance abuse? postpartum depression?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hanges in growth due to FT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rly finding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eigh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te finding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ength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ead circumfere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1536840" y="1863720"/>
            <a:ext cx="3408120" cy="4765680"/>
          </a:xfrm>
          <a:prstGeom prst="rect">
            <a:avLst/>
          </a:prstGeom>
          <a:ln w="0">
            <a:noFill/>
          </a:ln>
        </p:spPr>
      </p:pic>
      <p:sp>
        <p:nvSpPr>
          <p:cNvPr id="384" name="Oval 4"/>
          <p:cNvSpPr/>
          <p:nvPr/>
        </p:nvSpPr>
        <p:spPr>
          <a:xfrm>
            <a:off x="2103480" y="4459320"/>
            <a:ext cx="58680" cy="58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Oval 5"/>
          <p:cNvSpPr/>
          <p:nvPr/>
        </p:nvSpPr>
        <p:spPr>
          <a:xfrm>
            <a:off x="2013120" y="4519440"/>
            <a:ext cx="58680" cy="5904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Oval 6"/>
          <p:cNvSpPr/>
          <p:nvPr/>
        </p:nvSpPr>
        <p:spPr>
          <a:xfrm>
            <a:off x="1927080" y="4638600"/>
            <a:ext cx="59040" cy="58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Oval 7"/>
          <p:cNvSpPr/>
          <p:nvPr/>
        </p:nvSpPr>
        <p:spPr>
          <a:xfrm>
            <a:off x="1851120" y="4916520"/>
            <a:ext cx="58680" cy="58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Oval 9"/>
          <p:cNvSpPr/>
          <p:nvPr/>
        </p:nvSpPr>
        <p:spPr>
          <a:xfrm>
            <a:off x="3809880" y="3317760"/>
            <a:ext cx="58680" cy="58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733920" y="3454560"/>
            <a:ext cx="58680" cy="58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Oval 11"/>
          <p:cNvSpPr/>
          <p:nvPr/>
        </p:nvSpPr>
        <p:spPr>
          <a:xfrm>
            <a:off x="3673440" y="3625920"/>
            <a:ext cx="58680" cy="58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Oval 12"/>
          <p:cNvSpPr/>
          <p:nvPr/>
        </p:nvSpPr>
        <p:spPr>
          <a:xfrm>
            <a:off x="3611520" y="3751200"/>
            <a:ext cx="58680" cy="58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Oval 13"/>
          <p:cNvSpPr/>
          <p:nvPr/>
        </p:nvSpPr>
        <p:spPr>
          <a:xfrm>
            <a:off x="3911760" y="5257800"/>
            <a:ext cx="58680" cy="58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Oval 14"/>
          <p:cNvSpPr/>
          <p:nvPr/>
        </p:nvSpPr>
        <p:spPr>
          <a:xfrm>
            <a:off x="3624120" y="5516640"/>
            <a:ext cx="59040" cy="58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Oval 15"/>
          <p:cNvSpPr/>
          <p:nvPr/>
        </p:nvSpPr>
        <p:spPr>
          <a:xfrm>
            <a:off x="4073400" y="5135400"/>
            <a:ext cx="59040" cy="5904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Oval 16"/>
          <p:cNvSpPr/>
          <p:nvPr/>
        </p:nvSpPr>
        <p:spPr>
          <a:xfrm>
            <a:off x="4533840" y="4962600"/>
            <a:ext cx="58680" cy="5868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Oval 17"/>
          <p:cNvSpPr/>
          <p:nvPr/>
        </p:nvSpPr>
        <p:spPr>
          <a:xfrm>
            <a:off x="1774800" y="5127480"/>
            <a:ext cx="58680" cy="59040"/>
          </a:xfrm>
          <a:prstGeom prst="ellipse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7" name="Group 25"/>
          <p:cNvGrpSpPr/>
          <p:nvPr/>
        </p:nvGrpSpPr>
        <p:grpSpPr>
          <a:xfrm>
            <a:off x="6330960" y="1243080"/>
            <a:ext cx="2448000" cy="3862440"/>
            <a:chOff x="6330960" y="1243080"/>
            <a:chExt cx="2448000" cy="3862440"/>
          </a:xfrm>
        </p:grpSpPr>
        <p:pic>
          <p:nvPicPr>
            <p:cNvPr id="398" name="Picture 19" descr=""/>
            <p:cNvPicPr/>
            <p:nvPr/>
          </p:nvPicPr>
          <p:blipFill>
            <a:blip r:embed="rId2"/>
            <a:stretch/>
          </p:blipFill>
          <p:spPr>
            <a:xfrm>
              <a:off x="6330960" y="1243080"/>
              <a:ext cx="2448000" cy="38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Oval 20"/>
            <p:cNvSpPr/>
            <p:nvPr/>
          </p:nvSpPr>
          <p:spPr>
            <a:xfrm>
              <a:off x="7823160" y="2421000"/>
              <a:ext cx="224280" cy="154080"/>
            </a:xfrm>
            <a:prstGeom prst="ellipse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Oval 21"/>
            <p:cNvSpPr/>
            <p:nvPr/>
          </p:nvSpPr>
          <p:spPr>
            <a:xfrm>
              <a:off x="7467120" y="2575080"/>
              <a:ext cx="231120" cy="154080"/>
            </a:xfrm>
            <a:prstGeom prst="ellipse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Oval 22"/>
            <p:cNvSpPr/>
            <p:nvPr/>
          </p:nvSpPr>
          <p:spPr>
            <a:xfrm>
              <a:off x="7137000" y="2883240"/>
              <a:ext cx="238680" cy="144360"/>
            </a:xfrm>
            <a:prstGeom prst="ellipse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Oval 23"/>
            <p:cNvSpPr/>
            <p:nvPr/>
          </p:nvSpPr>
          <p:spPr>
            <a:xfrm>
              <a:off x="6845040" y="3591000"/>
              <a:ext cx="222480" cy="149400"/>
            </a:xfrm>
            <a:prstGeom prst="ellipse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Oval 24"/>
            <p:cNvSpPr/>
            <p:nvPr/>
          </p:nvSpPr>
          <p:spPr>
            <a:xfrm>
              <a:off x="6562440" y="4138920"/>
              <a:ext cx="207360" cy="149040"/>
            </a:xfrm>
            <a:prstGeom prst="ellipse">
              <a:avLst/>
            </a:prstGeom>
            <a:solidFill>
              <a:srgbClr val="94b6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5f55"/>
                </a:solidFill>
                <a:latin typeface="Tw Cen MT"/>
              </a:rPr>
              <a:t>Growth charts of an 8 month old boy with Non-organic FTT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Oval 27"/>
          <p:cNvSpPr/>
          <p:nvPr/>
        </p:nvSpPr>
        <p:spPr>
          <a:xfrm>
            <a:off x="1542960" y="4464000"/>
            <a:ext cx="846360" cy="1287360"/>
          </a:xfrm>
          <a:prstGeom prst="ellipse">
            <a:avLst/>
          </a:prstGeom>
          <a:noFill/>
          <a:ln w="5076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Line 28"/>
          <p:cNvSpPr/>
          <p:nvPr/>
        </p:nvSpPr>
        <p:spPr>
          <a:xfrm flipV="1">
            <a:off x="2411280" y="3257280"/>
            <a:ext cx="3668760" cy="1787400"/>
          </a:xfrm>
          <a:prstGeom prst="line">
            <a:avLst/>
          </a:prstGeom>
          <a:ln w="50760">
            <a:solidFill>
              <a:srgbClr val="dd80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Oval 29"/>
          <p:cNvSpPr/>
          <p:nvPr/>
        </p:nvSpPr>
        <p:spPr>
          <a:xfrm>
            <a:off x="6253200" y="1311120"/>
            <a:ext cx="2593800" cy="3876840"/>
          </a:xfrm>
          <a:prstGeom prst="ellipse">
            <a:avLst/>
          </a:prstGeom>
          <a:noFill/>
          <a:ln w="10152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hysica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181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Wt, Ht, HC with the growth char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ystemic exa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Signs of neglect or abu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Inappropriate behavio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hysica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bserve parent-child interac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specially during a feeding se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How is food or formula prepared?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Oral motor or swallowing difficulty?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s adequate time allowed for feeding?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Do they cuddle the infant during feeds?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Is TV or anything else causing a distraction?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775f55"/>
                </a:solidFill>
                <a:latin typeface="Tw Cen MT"/>
              </a:rPr>
              <a:t>Physical Indications of</a:t>
            </a:r>
            <a:br>
              <a:rPr sz="2200"/>
            </a:br>
            <a:r>
              <a:rPr b="0" lang="en-US" sz="2200" spc="-1" strike="noStrike">
                <a:solidFill>
                  <a:srgbClr val="775f55"/>
                </a:solidFill>
                <a:latin typeface="Tw Cen MT"/>
              </a:rPr>
              <a:t>Non-organic FTT</a:t>
            </a:r>
            <a:br>
              <a:rPr sz="2200"/>
            </a:br>
            <a:endParaRPr b="0" lang="en-US" sz="2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ck of age appropriate eye contact, smiling, vocalization, or interest in environm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hronic diaper rash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mpetigo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at occipu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oor hygein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rui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ca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3"/>
          <p:cNvSpPr/>
          <p:nvPr/>
        </p:nvSpPr>
        <p:spPr>
          <a:xfrm>
            <a:off x="1150920" y="1219320"/>
            <a:ext cx="7993080" cy="45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b052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 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Hx &amp; exam is negativ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ikely to find a cau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 I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565a3c"/>
                </a:solidFill>
                <a:latin typeface="Times New Roman"/>
              </a:rPr>
              <a:t>NO FIS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 II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Guided  by finding Hx and ex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 work u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*  CBC-d + ES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 Electrolyte profi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 Urine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 Stool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 Bone profi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 investigations</a:t>
            </a:r>
            <a:r>
              <a:rPr b="0" lang="en-US" sz="2000" spc="-1" strike="noStrike">
                <a:solidFill>
                  <a:srgbClr val="b79339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b79339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8ab052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3116160" y="3733920"/>
            <a:ext cx="406440" cy="380880"/>
          </a:xfrm>
          <a:prstGeom prst="rect">
            <a:avLst/>
          </a:prstGeom>
          <a:solidFill>
            <a:srgbClr val="94b6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3182760" y="5373720"/>
            <a:ext cx="406440" cy="431640"/>
          </a:xfrm>
          <a:prstGeom prst="rect">
            <a:avLst/>
          </a:prstGeom>
          <a:solidFill>
            <a:srgbClr val="94b6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ddc3"/>
                </a:solidFill>
                <a:latin typeface="Calibri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1084320" y="304920"/>
            <a:ext cx="629748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b052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565a3c"/>
                </a:solidFill>
                <a:latin typeface="Times New Roman"/>
              </a:rPr>
              <a:t>Investig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65a3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744480" y="1066680"/>
            <a:ext cx="7518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468360" y="838080"/>
            <a:ext cx="793116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65a3c"/>
                </a:solidFill>
                <a:latin typeface="Times New Roman"/>
              </a:rPr>
              <a:t>TREA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gent problems   e.g.  electrolyte ,                                                           infection,  dehyd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Nutritional rehabili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ch up growth requir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verview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efinition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iagnosi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utc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692280"/>
            <a:ext cx="815328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Goal is “catch-up” weight gain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Most cases can be managed with nutrition intervention and/or feeding behavior modifica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eneral principle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igh Calorie Die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ose Follow-up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Keep a prospective feeding diary-72 hour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anage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ergy intake should be 50% greater than the basal caloric requiremen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Concentrate formula, add rice cerea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dd taste pleasing fats to diet (cheese, peanut butter, ice cream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High calorie milk drinks (Pediasure has 30 cal/oz vs 19 cal per oz in whole milk)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Multivitamin with iron and zinc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Limit fruit juice to 8-12 oz per da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anagemen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arental behavior modification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y need reassurance to help with their own anxie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ncourage, but don’t force, child to ea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ke meals pleasant, regular times, don’t rus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y need to schedule meals every 2-3 hou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ake the child comfortabl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Encourage some variety and cover the basic food group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nacks between meal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Indications for hospitaliza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550"/>
              </a:spcBef>
              <a:buClr>
                <a:srgbClr val="f7b61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w Cen MT"/>
              </a:rPr>
              <a:t>Rarely necessar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eight below birth weight at 6 wk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igns of physical abus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ailure of out-patient therapy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ypothermia, bradycardia, hypotens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afety is a concern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work-up needed for organic caus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anagement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r difficult case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ultidisciplinary team approach produces better outcom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Dietitian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Social worke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Occupational therapis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Psychologis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G tube supplementation may be necessar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026"/>
          <p:cNvSpPr/>
          <p:nvPr/>
        </p:nvSpPr>
        <p:spPr>
          <a:xfrm>
            <a:off x="3589200" y="609480"/>
            <a:ext cx="264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 Box 1027"/>
          <p:cNvSpPr/>
          <p:nvPr/>
        </p:nvSpPr>
        <p:spPr>
          <a:xfrm>
            <a:off x="2709720" y="1523880"/>
            <a:ext cx="44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HISTORY AND PHYSICAL EXAMIN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 Box 1028"/>
          <p:cNvSpPr/>
          <p:nvPr/>
        </p:nvSpPr>
        <p:spPr>
          <a:xfrm>
            <a:off x="1150920" y="2590920"/>
            <a:ext cx="20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“</a:t>
            </a: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Organic Cause</a:t>
            </a: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 Box 1029"/>
          <p:cNvSpPr/>
          <p:nvPr/>
        </p:nvSpPr>
        <p:spPr>
          <a:xfrm>
            <a:off x="4132440" y="2895480"/>
            <a:ext cx="16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Cause Not Obvio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 Box 1030"/>
          <p:cNvSpPr/>
          <p:nvPr/>
        </p:nvSpPr>
        <p:spPr>
          <a:xfrm>
            <a:off x="7315200" y="3352680"/>
            <a:ext cx="128736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Feeding Disor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Psychosoc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Et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 Box 1031"/>
          <p:cNvSpPr/>
          <p:nvPr/>
        </p:nvSpPr>
        <p:spPr>
          <a:xfrm>
            <a:off x="1084320" y="4038480"/>
            <a:ext cx="12193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Investig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an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as Indicat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 Box 1032"/>
          <p:cNvSpPr/>
          <p:nvPr/>
        </p:nvSpPr>
        <p:spPr>
          <a:xfrm>
            <a:off x="3995640" y="373392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Laboratory Screening Te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1033"/>
          <p:cNvSpPr/>
          <p:nvPr/>
        </p:nvSpPr>
        <p:spPr>
          <a:xfrm>
            <a:off x="3522600" y="4724280"/>
            <a:ext cx="8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Posi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1036"/>
          <p:cNvSpPr/>
          <p:nvPr/>
        </p:nvSpPr>
        <p:spPr>
          <a:xfrm>
            <a:off x="5137200" y="47242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Neg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1037"/>
          <p:cNvSpPr/>
          <p:nvPr/>
        </p:nvSpPr>
        <p:spPr>
          <a:xfrm>
            <a:off x="7294320" y="5334120"/>
            <a:ext cx="169704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Treatment Mal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Multidisciplin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d0d0d"/>
                </a:solidFill>
                <a:latin typeface="Calibri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Line 1038"/>
          <p:cNvSpPr/>
          <p:nvPr/>
        </p:nvSpPr>
        <p:spPr>
          <a:xfrm>
            <a:off x="1760400" y="2133720"/>
            <a:ext cx="6164280" cy="0"/>
          </a:xfrm>
          <a:prstGeom prst="line">
            <a:avLst/>
          </a:prstGeom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Line 1039"/>
          <p:cNvSpPr/>
          <p:nvPr/>
        </p:nvSpPr>
        <p:spPr>
          <a:xfrm>
            <a:off x="1760400" y="2133720"/>
            <a:ext cx="0" cy="38088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1041"/>
          <p:cNvSpPr/>
          <p:nvPr/>
        </p:nvSpPr>
        <p:spPr>
          <a:xfrm>
            <a:off x="4741920" y="2133720"/>
            <a:ext cx="0" cy="68580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Line 1046"/>
          <p:cNvSpPr/>
          <p:nvPr/>
        </p:nvSpPr>
        <p:spPr>
          <a:xfrm flipH="1">
            <a:off x="2370240" y="4800600"/>
            <a:ext cx="101592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Line 1051"/>
          <p:cNvSpPr/>
          <p:nvPr/>
        </p:nvSpPr>
        <p:spPr>
          <a:xfrm>
            <a:off x="4741920" y="4038480"/>
            <a:ext cx="0" cy="30492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Line 1055"/>
          <p:cNvSpPr/>
          <p:nvPr/>
        </p:nvSpPr>
        <p:spPr>
          <a:xfrm>
            <a:off x="1760400" y="2895480"/>
            <a:ext cx="0" cy="99072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Line 1056"/>
          <p:cNvSpPr/>
          <p:nvPr/>
        </p:nvSpPr>
        <p:spPr>
          <a:xfrm>
            <a:off x="7924680" y="2133720"/>
            <a:ext cx="0" cy="91584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Line 1058"/>
          <p:cNvSpPr/>
          <p:nvPr/>
        </p:nvSpPr>
        <p:spPr>
          <a:xfrm>
            <a:off x="4741920" y="31240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Line 1062"/>
          <p:cNvSpPr/>
          <p:nvPr/>
        </p:nvSpPr>
        <p:spPr>
          <a:xfrm>
            <a:off x="3929040" y="4419720"/>
            <a:ext cx="1488960" cy="0"/>
          </a:xfrm>
          <a:prstGeom prst="line">
            <a:avLst/>
          </a:prstGeom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Line 1064"/>
          <p:cNvSpPr/>
          <p:nvPr/>
        </p:nvSpPr>
        <p:spPr>
          <a:xfrm>
            <a:off x="3929040" y="4419720"/>
            <a:ext cx="0" cy="30456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Line 1065"/>
          <p:cNvSpPr/>
          <p:nvPr/>
        </p:nvSpPr>
        <p:spPr>
          <a:xfrm>
            <a:off x="5418000" y="4419720"/>
            <a:ext cx="0" cy="22860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Line 1067"/>
          <p:cNvSpPr/>
          <p:nvPr/>
        </p:nvSpPr>
        <p:spPr>
          <a:xfrm>
            <a:off x="5892840" y="4800600"/>
            <a:ext cx="155736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Line 1068"/>
          <p:cNvSpPr/>
          <p:nvPr/>
        </p:nvSpPr>
        <p:spPr>
          <a:xfrm>
            <a:off x="7924680" y="5029200"/>
            <a:ext cx="0" cy="30492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Line 1070"/>
          <p:cNvSpPr/>
          <p:nvPr/>
        </p:nvSpPr>
        <p:spPr>
          <a:xfrm>
            <a:off x="4741920" y="990720"/>
            <a:ext cx="0" cy="533160"/>
          </a:xfrm>
          <a:prstGeom prst="line">
            <a:avLst/>
          </a:prstGeom>
          <a:ln w="12600">
            <a:solidFill>
              <a:srgbClr val="99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1071"/>
          <p:cNvSpPr/>
          <p:nvPr/>
        </p:nvSpPr>
        <p:spPr>
          <a:xfrm>
            <a:off x="3595680" y="6858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INFANT WHO HAS FT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744480" y="1066680"/>
            <a:ext cx="7518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09480" y="6858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b052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250920" y="228600"/>
            <a:ext cx="8351640" cy="5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5d7e"/>
                </a:solidFill>
                <a:latin typeface="Times New Roman"/>
              </a:rPr>
              <a:t>Prognosis of non-organic FT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5d7e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55d7e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Retardation (15 - 67%)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*School learning (15 - 67%)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*Behavioral disturbance (28 - 48%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ersistent disorders of growth  increased susceptibility to 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Prognosi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n the 1</a:t>
            </a:r>
            <a:r>
              <a:rPr b="0" lang="en-GB" sz="2900" spc="-1" strike="noStrike" baseline="30000">
                <a:solidFill>
                  <a:srgbClr val="000000"/>
                </a:solidFill>
                <a:latin typeface="Tw Cen MT"/>
              </a:rPr>
              <a:t>st</a:t>
            </a: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 year of life is ominou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1/3 children with psychosocial FTT are developmentally delayed and have social and emotional proble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Variable prognosis in organic FT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620640"/>
            <a:ext cx="81532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75f55"/>
                </a:solidFill>
                <a:latin typeface="Times New Roman"/>
              </a:rPr>
              <a:t>CONCLUSION</a:t>
            </a:r>
            <a:br>
              <a:rPr sz="4000"/>
            </a:b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20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) FTT is a SIGN only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200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The most important diagnostic method is 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&amp; EX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22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) The important of Nutrition for the brain             development in the first 2 years of lif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op </a:t>
            </a:r>
            <a:r>
              <a:rPr b="0" lang="en-US" sz="4000" spc="-1" strike="noStrike" u="sng">
                <a:solidFill>
                  <a:srgbClr val="775f55"/>
                </a:solidFill>
                <a:uFillTx/>
                <a:latin typeface="Tw Cen MT"/>
              </a:rPr>
              <a:t>6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take home point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valuation of Failure to Thrive involves careful H&amp;P, observation of feeding session, and shoul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include routine lab or other diagnostic test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Nutritional deprivation in the infant and toddler age group can have permanent effects on growth and brain developmen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reatment can usually occur by the primary care physician in the outpatient setting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efini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ailure to Thrive (FTT)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eight below the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percentile for age and sex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eight for age curve falls across two major percentile lin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eight gain is less than expect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ther definitions exist, but are not superior in predicting problems or long term outc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op </a:t>
            </a:r>
            <a:r>
              <a:rPr b="0" lang="en-US" sz="4000" spc="-1" strike="noStrike" u="sng">
                <a:solidFill>
                  <a:srgbClr val="775f55"/>
                </a:solidFill>
                <a:uFillTx/>
                <a:latin typeface="Tw Cen MT"/>
              </a:rPr>
              <a:t>6</a:t>
            </a: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 take home point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sychosocial problems predominate as the causes of FTT in the outpatient sett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reatment goal is to increase energy intake to 1.5 times the basal requirement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arlier intervention may make it easier to break difficult behavior patterns and reduce sequelae from malnutritio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 algn="r" rtl="1">
              <a:spcBef>
                <a:spcPts val="700"/>
              </a:spcBef>
              <a:buClr>
                <a:srgbClr val="dd8047"/>
              </a:buClr>
              <a:buSzPct val="60000"/>
              <a:buFont typeface="Tw Cen M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3" descr="A:\gcal_93_4.jpg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481800"/>
          </a:xfrm>
          <a:prstGeom prst="rect">
            <a:avLst/>
          </a:prstGeom>
          <a:ln w="9360">
            <a:solidFill>
              <a:srgbClr val="dd8047"/>
            </a:solidFill>
            <a:miter/>
          </a:ln>
        </p:spPr>
      </p:pic>
      <p:sp>
        <p:nvSpPr>
          <p:cNvPr id="467" name="WordArt 5"/>
          <p:cNvSpPr txBox="1"/>
          <p:nvPr/>
        </p:nvSpPr>
        <p:spPr>
          <a:xfrm>
            <a:off x="2979720" y="3657600"/>
            <a:ext cx="3251160" cy="245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TT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: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 sign that describes a problem rather than a diagnosi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escribes failure to gain w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n more severe cases length and head circumference can be affect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Underlying cause is insufficient usable nutrition to meet the demands for growth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pproximately 25% of normal children will have a shift down in their wt curve , then follow a normal curve -- this 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w Cen M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failure to thriv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pecific infant population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emature/IUGR – wt may be less than 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percentile, but if following the growth curve and normal interval growth then FTT should not be diagnos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yp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rganic (30%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79339"/>
                </a:solidFill>
                <a:latin typeface="Times New Roman"/>
              </a:rPr>
              <a:t>2º to a disease proces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dical treatment needed for illnes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n-organic (70%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79339"/>
                </a:solidFill>
                <a:latin typeface="Times New Roman"/>
              </a:rPr>
              <a:t>under feeding &amp; psychosocial  disturbanc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79339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equires a change in the child’s environ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ix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ore useful classification system i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adequate caloric intak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adequate  absorp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creased energy requireme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tiolog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a3c"/>
                </a:solidFill>
                <a:latin typeface="Tw Cen MT"/>
              </a:rPr>
              <a:t>Inadequate Caloric Intak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correct preparation of formul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oor feeding habits (ex: too much juice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chanical feeding difficulties (reflux, cleft palate, oromotor dysfunction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eglec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hysicians are strongly encouraged to consider child abuse and neglect in cases of FTT that don’t respond to appropriate interventions*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tiolog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565a3c"/>
                </a:solidFill>
                <a:latin typeface="Tw Cen MT"/>
              </a:rPr>
              <a:t>Inadequate absorp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eliac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ystic fibrosi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ilk allerg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Vitamin deficienc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iliary Atresi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ost-Necrotizing enterocoliti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15:42:59Z</dcterms:created>
  <dc:creator>asus</dc:creator>
  <dc:description/>
  <dc:language>en-US</dc:language>
  <cp:lastModifiedBy>Dr. Husam Isalm</cp:lastModifiedBy>
  <dcterms:modified xsi:type="dcterms:W3CDTF">2017-12-06T07:11:21Z</dcterms:modified>
  <cp:revision>16</cp:revision>
  <dc:subject/>
  <dc:title>Common GI Problems of Infants and Children</dc:title>
</cp:coreProperties>
</file>